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17913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17C-C583-438B-9A89-B01CAB41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1440" y="137700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9D1-A3CD-4749-9555-BF2F3DB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82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D68-384E-4E04-B869-5166FFB6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1184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188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144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1184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188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32A-BE11-4B04-B6CB-113550DA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41F-5763-4A4A-98E6-5F6F828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943-FF44-40EF-9D74-E503FB5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A8E-111A-42DB-A8C9-7716181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4DB-4950-4D58-BA61-CF80BE32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1440" y="202680"/>
            <a:ext cx="30765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596-B777-4621-AFF7-E5D54F61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059-1624-4C0C-A8CB-68A4337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82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C7A-A8D8-4230-8BAF-E2F2EC4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8FA-9E7D-4B7B-A41A-72641F9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8000"/>
          </a:bodyPr>
          <a:p>
            <a:pPr marL="110160" indent="-110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40120" indent="-903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70080" indent="-72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519480" indent="-723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1080" y="2082600"/>
            <a:ext cx="75420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6600" y="2082600"/>
            <a:ext cx="114624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93440" y="2082600"/>
            <a:ext cx="75420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fld id="{04C10BC9-1983-47CE-B46C-123D18694145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mic Sans MS"/>
              </a:rPr>
              <a:t>Interru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Empfang v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Zeic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Senden v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Zeic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371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tok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s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2"/>
            <a:endCxn id="44" idx="1"/>
          </p:cNvCxnSpPr>
          <p:nvPr/>
        </p:nvCxnSpPr>
        <p:spPr>
          <a:xfrm flipH="1" rot="16200000">
            <a:off x="324000" y="894960"/>
            <a:ext cx="1105200" cy="533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rot="16200000">
            <a:off x="1371600" y="990360"/>
            <a:ext cx="7624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7" name=""/>
          <p:cNvCxnSpPr>
            <a:stCxn id="44" idx="3"/>
            <a:endCxn id="43" idx="2"/>
          </p:cNvCxnSpPr>
          <p:nvPr/>
        </p:nvCxnSpPr>
        <p:spPr>
          <a:xfrm flipV="1">
            <a:off x="2362320" y="609480"/>
            <a:ext cx="533520" cy="1105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9:10:51Z</dcterms:created>
  <dc:creator>Walter Borst</dc:creator>
  <dc:description/>
  <dc:language>en-US</dc:language>
  <cp:lastModifiedBy>Walter Borst</cp:lastModifiedBy>
  <dcterms:modified xsi:type="dcterms:W3CDTF">1999-09-06T11:02:12Z</dcterms:modified>
  <cp:revision>2</cp:revision>
  <dc:subject/>
  <dc:title>Kein Folientitel</dc:title>
</cp:coreProperties>
</file>